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09A9D-298D-402C-BCF3-BEC908FC2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C3521-BC49-4059-B585-7EB7C9C5F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3F627-64FA-46C0-A730-76228FF09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52DF2-38E7-4B39-AB82-036A46C5B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5A56C-6D2E-4C41-A406-6B80CD5CB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812DF-C8FF-4ACC-94D9-B34B8D10A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BC5AE-FEEA-4372-95B8-108BDC093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1BBAC-D4F3-4707-BB95-A2784D32E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45381-E289-487E-9C87-6D4D6D0A3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2257C-EA3B-4E2F-BF36-27C46ACB9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38B1E-3DB4-49DE-84DB-DCB8CBA78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ED45-C49E-486F-8E10-9D0824B0B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CF2F-6B61-438B-8DD8-EC28AED760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项目</a:t>
            </a:r>
            <a:r>
              <a:rPr b="1" lang="zh-CN" sz="4400" spc="-1" strike="noStrike">
                <a:solidFill>
                  <a:srgbClr val="000000"/>
                </a:solidFill>
                <a:latin typeface="Arial"/>
              </a:rPr>
              <a:t>四 当代国际贸易理论</a:t>
            </a:r>
            <a:r>
              <a:rPr b="0" lang="zh-CN" sz="4400" spc="-1" strike="noStrike">
                <a:solidFill>
                  <a:srgbClr val="000000"/>
                </a:solidFill>
                <a:latin typeface="Arial"/>
              </a:rPr>
              <a:t>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创新阶段。由于创新阶段需要投入大量的研究与开发费用和技术力量，这只能在发达国家如美国等资本充裕和科技力量雄厚的国家进行，从而生产出创新产品，并对该创新产品拥有垄断地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成长和成熟阶段。在这一阶段其他发达国家开始仿制这种新产品，由于仿制国不需要负担新产品的科研开发费用，同时在劳动成本方面往往具有优势，其在本国销售的产品价格低于创新国，使得仿制国从创新国进口逐渐减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标准化阶段。这一阶段是外国产品在国际市场上与创新国产品进行竞争的时期。仿制国开始出口这种产品，创新国的垄断地位逐渐丧失，出口大幅度下降，最终仿制国产品将在第三国市场上取代创新国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衰退阶段。在这一阶段仿制国产品开始进入创新国，创新国开始由净出口国变为净进口国，新产品生命周期在创新国结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ndParaRPr>
          </a:p>
        </p:txBody>
      </p:sp>
      <p:sp>
        <p:nvSpPr>
          <p:cNvPr id="59" name=""/>
          <p:cNvSpPr txBox="1"/>
          <p:nvPr/>
        </p:nvSpPr>
        <p:spPr>
          <a:xfrm>
            <a:off x="457200" y="1196640"/>
            <a:ext cx="8229600" cy="554508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模块三</a:t>
            </a:r>
            <a:r>
              <a:rPr b="1" lang="en-US" sz="3200" spc="-1" strike="noStrike">
                <a:solidFill>
                  <a:srgbClr val="000000"/>
                </a:solidFill>
                <a:latin typeface="Arial"/>
              </a:rPr>
              <a:t>  </a:t>
            </a:r>
            <a:r>
              <a:rPr b="1" lang="zh-CN" sz="3200" spc="-1" strike="noStrike">
                <a:solidFill>
                  <a:srgbClr val="000000"/>
                </a:solidFill>
                <a:latin typeface="Arial"/>
              </a:rPr>
              <a:t>国家竞争优势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国家竞争优势说的主要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微观竞争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中观竞争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宏观竞争机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79280" y="333000"/>
            <a:ext cx="8640720" cy="579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国家竞争优势四基本因素、两辅助因素模型</a:t>
            </a:r>
            <a:endParaRPr b="0" lang="en-US" sz="3200" spc="-1" strike="noStrike">
              <a:solidFill>
                <a:srgbClr val="000000"/>
              </a:solidFill>
              <a:latin typeface="Arial"/>
            </a:endParaRPr>
          </a:p>
        </p:txBody>
      </p:sp>
      <p:grpSp>
        <p:nvGrpSpPr>
          <p:cNvPr id="63" name="Group 4"/>
          <p:cNvGrpSpPr/>
          <p:nvPr/>
        </p:nvGrpSpPr>
        <p:grpSpPr>
          <a:xfrm>
            <a:off x="539640" y="1773360"/>
            <a:ext cx="7344000" cy="3960720"/>
            <a:chOff x="539640" y="1773360"/>
            <a:chExt cx="7344000" cy="3960720"/>
          </a:xfrm>
        </p:grpSpPr>
        <p:sp>
          <p:nvSpPr>
            <p:cNvPr id="64" name="AutoShape 5"/>
            <p:cNvSpPr/>
            <p:nvPr/>
          </p:nvSpPr>
          <p:spPr>
            <a:xfrm>
              <a:off x="539640" y="1773360"/>
              <a:ext cx="73440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6"/>
            <p:cNvSpPr/>
            <p:nvPr/>
          </p:nvSpPr>
          <p:spPr>
            <a:xfrm>
              <a:off x="1497240" y="1773360"/>
              <a:ext cx="1117800" cy="70776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机遇</a:t>
              </a:r>
              <a:endParaRPr b="0" lang="en-US" sz="1400" spc="-1" strike="noStrike">
                <a:solidFill>
                  <a:srgbClr val="000000"/>
                </a:solidFill>
                <a:latin typeface="Arial"/>
              </a:endParaRPr>
            </a:p>
          </p:txBody>
        </p:sp>
        <p:sp>
          <p:nvSpPr>
            <p:cNvPr id="66" name="Text Box 7"/>
            <p:cNvSpPr/>
            <p:nvPr/>
          </p:nvSpPr>
          <p:spPr>
            <a:xfrm>
              <a:off x="3573000" y="1914480"/>
              <a:ext cx="2553840" cy="42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企业战略、结构和竞争对手</a:t>
              </a:r>
              <a:endParaRPr b="0" lang="en-US" sz="1400" spc="-1" strike="noStrike">
                <a:solidFill>
                  <a:srgbClr val="000000"/>
                </a:solidFill>
                <a:latin typeface="Arial"/>
              </a:endParaRPr>
            </a:p>
          </p:txBody>
        </p:sp>
        <p:sp>
          <p:nvSpPr>
            <p:cNvPr id="67" name="Text Box 8"/>
            <p:cNvSpPr/>
            <p:nvPr/>
          </p:nvSpPr>
          <p:spPr>
            <a:xfrm>
              <a:off x="1497240" y="3754440"/>
              <a:ext cx="1117800" cy="42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生产要素</a:t>
              </a:r>
              <a:endParaRPr b="0" lang="en-US" sz="1400" spc="-1" strike="noStrike">
                <a:solidFill>
                  <a:srgbClr val="000000"/>
                </a:solidFill>
                <a:latin typeface="Arial"/>
              </a:endParaRPr>
            </a:p>
          </p:txBody>
        </p:sp>
        <p:sp>
          <p:nvSpPr>
            <p:cNvPr id="68" name="Text Box 9"/>
            <p:cNvSpPr/>
            <p:nvPr/>
          </p:nvSpPr>
          <p:spPr>
            <a:xfrm>
              <a:off x="2934360" y="5168880"/>
              <a:ext cx="2234520" cy="423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相关产业和支持性产业</a:t>
              </a:r>
              <a:endParaRPr b="0" lang="en-US" sz="1400" spc="-1" strike="noStrike">
                <a:solidFill>
                  <a:srgbClr val="000000"/>
                </a:solidFill>
                <a:latin typeface="Arial"/>
              </a:endParaRPr>
            </a:p>
          </p:txBody>
        </p:sp>
        <p:sp>
          <p:nvSpPr>
            <p:cNvPr id="69" name="Oval 10"/>
            <p:cNvSpPr/>
            <p:nvPr/>
          </p:nvSpPr>
          <p:spPr>
            <a:xfrm>
              <a:off x="6287400" y="5027040"/>
              <a:ext cx="957600" cy="706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政府</a:t>
              </a:r>
              <a:endParaRPr b="0" lang="en-US" sz="1400" spc="-1" strike="noStrike">
                <a:solidFill>
                  <a:srgbClr val="000000"/>
                </a:solidFill>
                <a:latin typeface="Arial"/>
              </a:endParaRPr>
            </a:p>
          </p:txBody>
        </p:sp>
        <p:sp>
          <p:nvSpPr>
            <p:cNvPr id="70" name="Line 11"/>
            <p:cNvSpPr/>
            <p:nvPr/>
          </p:nvSpPr>
          <p:spPr>
            <a:xfrm flipV="1">
              <a:off x="2135880" y="2197440"/>
              <a:ext cx="1437120" cy="155556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2"/>
            <p:cNvSpPr/>
            <p:nvPr/>
          </p:nvSpPr>
          <p:spPr>
            <a:xfrm>
              <a:off x="1976760" y="4178520"/>
              <a:ext cx="957600" cy="127332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3"/>
            <p:cNvSpPr/>
            <p:nvPr/>
          </p:nvSpPr>
          <p:spPr>
            <a:xfrm flipH="1">
              <a:off x="3891960" y="2339640"/>
              <a:ext cx="638280" cy="282888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4"/>
            <p:cNvSpPr/>
            <p:nvPr/>
          </p:nvSpPr>
          <p:spPr>
            <a:xfrm>
              <a:off x="4690800" y="2339640"/>
              <a:ext cx="1915560" cy="268704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5"/>
            <p:cNvSpPr/>
            <p:nvPr/>
          </p:nvSpPr>
          <p:spPr>
            <a:xfrm>
              <a:off x="1976760" y="2481120"/>
              <a:ext cx="0" cy="1272240"/>
            </a:xfrm>
            <a:prstGeom prst="line">
              <a:avLst/>
            </a:prstGeom>
            <a:ln cap="rnd" w="19080">
              <a:solidFill>
                <a:srgbClr val="00000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6"/>
            <p:cNvSpPr/>
            <p:nvPr/>
          </p:nvSpPr>
          <p:spPr>
            <a:xfrm>
              <a:off x="2615400" y="2056320"/>
              <a:ext cx="957600" cy="0"/>
            </a:xfrm>
            <a:prstGeom prst="line">
              <a:avLst/>
            </a:prstGeom>
            <a:ln w="1584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7"/>
            <p:cNvSpPr/>
            <p:nvPr/>
          </p:nvSpPr>
          <p:spPr>
            <a:xfrm>
              <a:off x="2454840" y="2339640"/>
              <a:ext cx="1276920" cy="2828880"/>
            </a:xfrm>
            <a:prstGeom prst="line">
              <a:avLst/>
            </a:prstGeom>
            <a:ln cap="rnd" w="15840">
              <a:solidFill>
                <a:srgbClr val="00000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8"/>
            <p:cNvSpPr/>
            <p:nvPr/>
          </p:nvSpPr>
          <p:spPr>
            <a:xfrm>
              <a:off x="5169240" y="5451840"/>
              <a:ext cx="1117800" cy="108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 name="Line 19"/>
            <p:cNvSpPr/>
            <p:nvPr/>
          </p:nvSpPr>
          <p:spPr>
            <a:xfrm>
              <a:off x="6765840" y="3842280"/>
              <a:ext cx="720" cy="118476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0"/>
            <p:cNvSpPr/>
            <p:nvPr/>
          </p:nvSpPr>
          <p:spPr>
            <a:xfrm flipV="1">
              <a:off x="5169240" y="3841920"/>
              <a:ext cx="1276920" cy="146772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1"/>
            <p:cNvSpPr/>
            <p:nvPr/>
          </p:nvSpPr>
          <p:spPr>
            <a:xfrm>
              <a:off x="2615400" y="4036680"/>
              <a:ext cx="3672000" cy="141480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22"/>
            <p:cNvSpPr/>
            <p:nvPr/>
          </p:nvSpPr>
          <p:spPr>
            <a:xfrm>
              <a:off x="2615400" y="2197800"/>
              <a:ext cx="3564720" cy="1344240"/>
            </a:xfrm>
            <a:prstGeom prst="line">
              <a:avLst/>
            </a:prstGeom>
            <a:ln w="1584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23"/>
            <p:cNvSpPr/>
            <p:nvPr/>
          </p:nvSpPr>
          <p:spPr>
            <a:xfrm>
              <a:off x="6105600" y="2050200"/>
              <a:ext cx="659880" cy="136800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24"/>
            <p:cNvSpPr/>
            <p:nvPr/>
          </p:nvSpPr>
          <p:spPr>
            <a:xfrm flipV="1">
              <a:off x="2615400" y="3753360"/>
              <a:ext cx="3564720" cy="14148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25"/>
            <p:cNvSpPr/>
            <p:nvPr/>
          </p:nvSpPr>
          <p:spPr>
            <a:xfrm>
              <a:off x="6180120" y="3418200"/>
              <a:ext cx="1116720" cy="42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需求状况</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549000"/>
            <a:ext cx="8229600" cy="5576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国家竞争优势的发展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要素推动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投资推动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创新推动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a:t>
            </a:r>
            <a:r>
              <a:rPr b="1" lang="zh-CN" sz="3200" spc="-1" strike="noStrike">
                <a:solidFill>
                  <a:srgbClr val="000000"/>
                </a:solidFill>
                <a:latin typeface="Arial"/>
              </a:rPr>
              <a:t>财富推动阶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zh-CN" sz="3200" spc="-1" strike="noStrike">
                <a:solidFill>
                  <a:srgbClr val="000000"/>
                </a:solidFill>
                <a:latin typeface="Arial"/>
              </a:rPr>
              <a:t>要素推动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此阶段的竞争优势主要取决于一国在某些基本要素上拥有的优势，即是否拥有廉价的劳动力和丰富的资源，这些国家产业的技术层次低，所需的技术是一般的和广泛可以使用的，这些技术主要来源于其他国家，而不是自创的。处于要素推动阶段的国家，其生产力缺乏持续增长的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3200" spc="-1" strike="noStrike">
                <a:solidFill>
                  <a:srgbClr val="000000"/>
                </a:solidFill>
                <a:latin typeface="Arial"/>
              </a:rPr>
              <a:t>投资推动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此阶段的竞争优势主要取决于资本要素，大量投资可更新设备、扩大规模、增强产品的竞争能力。在这一阶段，企业不仅使用外国技术，而且改进外国技术，这个阶段的显著特点是企业具有吸收和改进外国技术的能力。但随着要素成本和工资大幅度增加，一些价格敏感的产业开始失去竞争优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zh-CN" sz="3200" spc="-1" strike="noStrike">
                <a:solidFill>
                  <a:srgbClr val="000000"/>
                </a:solidFill>
                <a:latin typeface="Arial"/>
              </a:rPr>
              <a:t>了解当代国际贸易理论的概念和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3200" spc="-1" strike="noStrike">
                <a:solidFill>
                  <a:srgbClr val="000000"/>
                </a:solidFill>
                <a:latin typeface="Arial"/>
              </a:rPr>
              <a:t>掌握当代国际贸易理论解决的一些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zh-CN" sz="3200" spc="-1" strike="noStrike">
                <a:solidFill>
                  <a:srgbClr val="000000"/>
                </a:solidFill>
                <a:latin typeface="Arial"/>
              </a:rPr>
              <a:t>创新推动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能在广泛的领域里进行竞争，实现持续的技术升级。竞争优势主要来源于研究与开发。企业不仅能运用和改进外国技术，而且能创造技术，这个阶段的显著特点：一是高水平的服务业占据越来越高的国际地位，这是产业竞争力不断增加的反映；二是政府的作用发生变化，资源配置、贸易保护、出口补贴等形式的干预程度越来越少，政府主要发挥间接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zh-CN" sz="3200" spc="-1" strike="noStrike">
                <a:solidFill>
                  <a:srgbClr val="000000"/>
                </a:solidFill>
                <a:latin typeface="Arial"/>
              </a:rPr>
              <a:t>财富推动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阶段的驱动力是已经获得的财富，但是，依靠过去的财富所驱动的经济是不能保持其财富的，最终导致创新、竞争意识下降，产业竞争能力衰弱，企业开始失去竞争优势。这个阶段的显著特点是：长期的产业投资不足；投资者的目标从资本积累转变为资本保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对国家竞争优势说的评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局限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260280"/>
            <a:ext cx="8229600" cy="586584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小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模块介绍了需求偏好相似说、产品生命周期理论和国家竞争优势说等理论，融会贯通当代国际贸易理论会进一步增强对国际贸易理论的学习，从而增强理性认识。把握当代国际贸易理论的主要观点，结合全球经济一体化，深入分析当前国际贸易现象。与传统的国际贸易理论相比，当代国际贸易理论从理论基础、分析方法和应用等方面都取得了重大的进步，当代国际贸易理论改变了传统贸易理论的假设条件、分析框架，解释了二战后同类产品之间以及发达工业国之间的贸易量大大增加、跨国公司内部化和对外直接投资兴起等现实，比传统贸易理论更具说服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ndParaRPr>
          </a:p>
        </p:txBody>
      </p:sp>
      <p:sp>
        <p:nvSpPr>
          <p:cNvPr id="44" name=""/>
          <p:cNvSpPr txBox="1"/>
          <p:nvPr/>
        </p:nvSpPr>
        <p:spPr>
          <a:xfrm>
            <a:off x="457200" y="1196640"/>
            <a:ext cx="8229600" cy="554508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模块一</a:t>
            </a:r>
            <a:r>
              <a:rPr b="1" lang="en-US" sz="3200" spc="-1" strike="noStrike">
                <a:solidFill>
                  <a:srgbClr val="000000"/>
                </a:solidFill>
                <a:latin typeface="Arial"/>
              </a:rPr>
              <a:t>  </a:t>
            </a:r>
            <a:r>
              <a:rPr b="1" lang="zh-CN" sz="3200" spc="-1" strike="noStrike">
                <a:solidFill>
                  <a:srgbClr val="000000"/>
                </a:solidFill>
                <a:latin typeface="Arial"/>
              </a:rPr>
              <a:t>需求偏好相似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1196640"/>
            <a:ext cx="8229600" cy="5545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需求偏好相似说的内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理论的基本观点是：发达国家之间相互进行工业化产品贸易的种类、范围、流量是由各国的需求因素决定的，即各国的需求偏好；而一国的需求偏好又决定于该国的平均收入水平。</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产品的出口是以国内需求为基础</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产品流向、贸易量取决于两国需求偏好相似的程度</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一国的平均收入水平决定一国的需求偏好</a:t>
            </a:r>
            <a:endParaRPr b="0" lang="en-US" sz="32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需求偏好相似说的评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科学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局限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需求偏好相似说的评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zh-CN" sz="3200" spc="-1" strike="noStrike">
                <a:solidFill>
                  <a:srgbClr val="000000"/>
                </a:solidFill>
                <a:latin typeface="Arial"/>
              </a:rPr>
              <a:t>科学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需求偏好相似说从需求的角度分析了工业国家的产业间贸易和产业内贸易，在一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程度上丰富了国际贸易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需求偏好相似说与贸易事实基本吻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需求偏好相似说的评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3200" spc="-1" strike="noStrike">
                <a:solidFill>
                  <a:srgbClr val="000000"/>
                </a:solidFill>
                <a:latin typeface="Arial"/>
              </a:rPr>
              <a:t>局限性</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需求偏好相似说仅仅笼统地强调贸易双方同时出口和进口制成品的原因是需求偏好相似，但一国不可能在同类产品上同时具有比较优势和比较劣势，而行业内贸易又的确发生了，林德没有进一步解释产生这种现象产生的原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根据需求偏好相似说，一国产品出口以本国需求为基础，但在实际贸易中，存在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之相反的情况，即一国出口的产品并不是本国大量需求的产品，甚至是本国不需求的产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需求偏好相似说认为大量贸易应发生在需求偏好相似的国家之间，但无法解释现实</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中存在的需求偏好差异较大的国家之间</a:t>
            </a:r>
            <a:r>
              <a:rPr b="0" lang="en-US" sz="2400" spc="-1" strike="noStrike">
                <a:solidFill>
                  <a:srgbClr val="000000"/>
                </a:solidFill>
                <a:latin typeface="Arial"/>
              </a:rPr>
              <a:t>(</a:t>
            </a:r>
            <a:r>
              <a:rPr b="0" lang="zh-CN" sz="2400" spc="-1" strike="noStrike">
                <a:solidFill>
                  <a:srgbClr val="000000"/>
                </a:solidFill>
                <a:latin typeface="Arial"/>
              </a:rPr>
              <a:t>富国与穷国之间</a:t>
            </a:r>
            <a:r>
              <a:rPr b="0" lang="en-US" sz="2400" spc="-1" strike="noStrike">
                <a:solidFill>
                  <a:srgbClr val="000000"/>
                </a:solidFill>
                <a:latin typeface="Arial"/>
              </a:rPr>
              <a:t>)</a:t>
            </a:r>
            <a:r>
              <a:rPr b="0" lang="zh-CN" sz="2400" spc="-1" strike="noStrike">
                <a:solidFill>
                  <a:srgbClr val="000000"/>
                </a:solidFill>
                <a:latin typeface="Arial"/>
              </a:rPr>
              <a:t>的贸易现象。</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ndParaRPr>
          </a:p>
        </p:txBody>
      </p:sp>
      <p:sp>
        <p:nvSpPr>
          <p:cNvPr id="51" name=""/>
          <p:cNvSpPr txBox="1"/>
          <p:nvPr/>
        </p:nvSpPr>
        <p:spPr>
          <a:xfrm>
            <a:off x="457200" y="1196640"/>
            <a:ext cx="8229600" cy="554508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模块二</a:t>
            </a:r>
            <a:r>
              <a:rPr b="1" lang="en-US" sz="3200" spc="-1" strike="noStrike">
                <a:solidFill>
                  <a:srgbClr val="000000"/>
                </a:solidFill>
                <a:latin typeface="Arial"/>
              </a:rPr>
              <a:t>  </a:t>
            </a:r>
            <a:r>
              <a:rPr b="1" lang="zh-CN" sz="3200" spc="-1" strike="noStrike">
                <a:solidFill>
                  <a:srgbClr val="000000"/>
                </a:solidFill>
                <a:latin typeface="Arial"/>
              </a:rPr>
              <a:t>产品生命周期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产品生命周期理论</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产品生命周期理论的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创新阶段。</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成长和成熟阶段。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标准化阶段。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衰退阶段。</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5T02:25:29Z</dcterms:created>
  <dc:creator>dfxy</dc:creator>
  <dc:description/>
  <dc:language>en-US</dc:language>
  <cp:lastModifiedBy>性卤瞪频梦</cp:lastModifiedBy>
  <dcterms:modified xsi:type="dcterms:W3CDTF">2024-05-16T01:37:40Z</dcterms:modified>
  <cp:revision>1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AB6B0AD3683B452DA09D7733A09576A5_12</vt:lpwstr>
  </property>
  <property fmtid="{D5CDD505-2E9C-101B-9397-08002B2CF9AE}" pid="3" name="KSOProductBuildVer">
    <vt:lpwstr>2052-12.1.0.16729</vt:lpwstr>
  </property>
</Properties>
</file>